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DB1-A9D9-4B5E-89CF-8D2ABCBC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776-0D0A-4EE6-A536-2C8E3422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3B05A-F957-4B81-8D32-C81B49B1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1851C-6041-4AC5-B671-BB1E6FC7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6321E-3E62-4B0A-8E44-9654E40D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41960-418A-49A1-990B-9D59411E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CDFBC-E563-4A01-A898-66B1B39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501C5-C218-41EA-B825-D7FE7B23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6947F-D3CF-4CD0-AD0F-C443D4D6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038AB-FDEE-419F-B3AA-F14C2AEC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2D7D8-EF20-43A3-8CC2-BDDC3891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E5957-BC4A-42AE-9925-C5922146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845-D8BC-4E11-BBA6-1FD48B3D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D4B69-401F-4916-8A4E-D240B7A0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9600D-97E3-4FAD-B2D8-2A442A68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19893-4113-4289-9C06-D9345410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19F8C-872E-4EB6-B4A9-B31992D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B8DDD-6786-489F-9B17-D94D9776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CB43E-346E-4DAB-B08B-1A891ED0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8E7DE-7419-4191-9961-911D9A1A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34F73-3948-42B1-9661-D1CE214B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4C083-CE75-4DE3-9166-EBC65DC8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C4B19-FDF9-4679-9FB1-64F2FAE1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C91-6274-4B7D-B71F-FC2C16F7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E9683-2576-462B-A7D6-E3BA6743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D93F8-92AD-4758-8EE5-A773F46A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6709E-8C08-4ED3-82F0-CB5968DE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9EB1E-DEB3-44E2-9473-A004F315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102F9-0154-4D14-A592-35206FF7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80AE4-24EE-4F2D-968F-1D6B770F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3F2B5-967C-48E1-AB3B-633F6E6E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791B4-4276-4CFF-80B9-59404895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EFDFA-A59E-4049-88B1-569E9F30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7D7A9-0841-4792-B267-B9E91F05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5DF6-175A-4A75-84EC-87DD5AAE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F552B-66A5-4AE9-8377-812D8BBE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C84D0-0270-4DA7-A1D8-09E615CA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A95D1-6BA2-423A-949A-FE9A1ECF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BD285-9D7C-423B-A9CF-6F6784B1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82E6E-CE1F-4A1D-BBE5-79D29B52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A87BA-8C52-4EBD-9182-9CD35E09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D74AC-5666-4693-A1AF-D5F3BE8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2C112-2EED-4279-A116-1E5A1798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B3CDF-3B00-4A08-8D9E-94E493C7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C20E3-1613-45AF-945E-756D7467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6C9D-1D8D-494F-A308-6598A567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9B189-E819-4124-A6C8-43A3F007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5A4D9-C1F4-4250-9283-1D27A9EF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587BE-CD3A-4D61-AEE6-04E31296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DA9FD-F56C-4F8E-8939-64001072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80F4B-4B53-4E6E-AF02-C964A6C4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46E67-CA71-4BA1-A763-14E98503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32057-635A-441B-9F85-52E255F2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74A1D-62AC-4C98-888C-F5546F1C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F5FDA-2B3A-405B-AA5B-3C558551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86212-73E4-4752-9D7A-D2BC6798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337A-60A3-446F-8D1A-78DC2EE8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87158-BC4C-4CF9-BA1E-36FC44A8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0473D-90DC-43A9-9835-0B95A94C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BB1EC-53E0-4A95-A8C8-14FB6570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1179F-C3D5-4FAE-AE05-527EAE94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8D14D-FF3B-4329-84A7-80C017DB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B5A4B-4028-4F19-B149-25DFA987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44051-AF8A-4481-AAE4-ABFC5690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B006C-039D-4D91-88BE-DF4EF1A1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F358D-3CD4-49E1-9B87-5141A907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C16DF-D31E-4E57-A971-F1EAC910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ECC2-E2D8-4D60-9EF9-9F560AC5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DE3F7-5C80-4B12-9716-7C65BDB3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D9264-D239-4E55-AAF2-6F49A30A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3F7FB-2C86-454A-8DC4-11FCEA51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53A0C-EDF5-4856-BDF4-3F71A76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68201-5556-4E19-A973-2530472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2429C-4C0C-48BF-9671-BA7B6D0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01641-5BE7-4979-AB02-5FE54414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F1EE4-7F4C-4961-AC6C-E919556E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1CA12-085F-4841-ADCE-135C02BC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34194-DB6A-4ACE-8BA2-B20C79BE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6E30-0FF2-41B4-8387-4265045C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0B2CA-9C4B-42B8-A312-78164474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30A51-3336-4676-B1FE-0A67E43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92274-3AEB-4A09-96CB-322316EB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CA40DA-869C-422D-96BA-85E6ED76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9A577-03CC-4290-BFB2-E279A968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14522-7877-42A6-9BE8-25E7958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072E6-8FC2-480D-B78D-E725D07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E1F9B-8A8C-4338-A6A6-05768260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CC0D13-9AA7-41E9-AAD8-E6CFF8E3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2C961-0763-467D-9D94-021975F7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31C1-87CB-4EC7-BD49-3A72E0E0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7EC4F-8F44-490D-894A-1D62F0B9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F9BF6-39D5-4596-A671-1F4D33EA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5F39B-FCDF-4D41-93A7-5ED92C0F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C77A7-0DEF-4CB0-A122-24BB813E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D9373-81DC-4ABA-8FE6-50C82383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4F9FD-FD08-49CA-B74D-149E398C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0D2BC-9BDD-4020-B80C-9C8E450B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D0112-26F0-46A6-A056-9F79F919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13211-91F5-4551-B1A9-F4675B18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10816-F806-40BC-B094-05ACC982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67D5-9481-43F8-B597-20A150F8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0B782-5971-4007-9BE3-10DA58FC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F0B5E-C1FA-4231-9E03-A5E42321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D9B60-5EBC-421D-BF4A-7DD87363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2A18AE-A65B-47AA-B385-67764E47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F54B2-4869-4448-8E78-CF71EC5E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7CE35-0A5E-4A6B-83F5-15F6C9F2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DB17C-EE23-4B93-877E-7AD76988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E9876-A27D-4BB1-B076-D8D11462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39B62-80EE-46AE-97A9-C59FF609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441A2-9B23-48AA-9AFD-A2F3BD08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35B-49B1-437F-A5BE-D41213E5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197B-FB22-4580-9C13-F0779FF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4EF8DF-C11E-487A-B55A-654AE77E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5D493-6B22-46FD-AE85-4FD9F31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B3B0D-6242-4448-9D62-D87DBBD6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C829C-F746-4476-9A81-71C92FA6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1090D-3A8E-4A26-99E1-64966334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43143-BEAB-4F24-936A-A16763B3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04BAA-FB7C-4198-8901-067D860E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A985AB-50EF-4EDB-A1AD-0FB33162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A6B52-D89D-484F-86A3-19570784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806E82-4B80-45CE-AED5-A3D38D0E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286E-19BD-4219-A730-8782483F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802BEC-61E1-4778-8A17-D679A2F7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B8009-65A9-4F65-9F34-B0B0E610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849234-7255-4743-B8F3-FEFEB76A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03C56-9ABF-43A2-867F-77444D03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12374-0B4A-4D89-815D-C581B0D7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F027BC-F86D-42EF-BB7F-2C1608C9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82F4A-B13D-4D78-AA96-EF34A461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ACDE4-E9A1-4223-AD3B-B4AE1537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A9DD1-4039-409F-B8BB-BB0A4EA0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D4ED5-07BF-49E4-BB88-46A187D6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3DBC-CBC1-4D60-8916-5A632B4B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30729-99A5-4469-AE24-FF9E18EE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E2D9C8-85E8-4CCA-AE9F-9B77E679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6CD17-D42C-463B-9D3F-2B8A0D22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CAF0BF-3578-4477-A1B5-A96A693C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BDD5D9-3FD8-4A21-A057-0FC624F9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63E17A-092F-4434-A048-4A9E968A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D19CA5-7234-407A-9052-DE9542BC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FD050-EF55-4D8D-ADD4-2476D521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B4D07-6690-418D-B4EB-0AA0C408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5CD97-AE94-4937-9934-80296510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012B-BA63-440A-8134-39B5F687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1C5CB5-B628-4994-96FD-45CD52D2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441FDA-72DD-4BAE-8022-31D0D46D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75C97-42ED-465E-8ED0-D3F4D1A0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E1CAD4-6A0F-405F-B4FE-EF735BC6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58C07-89D6-49B0-8AE6-BED980B3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69FA9-0D80-416F-B9CC-CA285AAB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C3DD81-4E3F-45AF-8796-AA7B1908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F972C8-D379-4CCA-AEA5-054D291B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93CB2-DB6D-4512-92A6-CCFDE3A2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E9B976-251F-4117-8C81-490CB5C6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884F-12AF-4CDE-9287-41BE01D3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836CD-3B20-44A2-B2A6-90836E40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F0D2A4-1FA8-458A-9DED-3B0EB016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BF0698-4785-4106-98A7-D2B1DDD2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6FBFE5-C80E-4986-B5EC-D35265E6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14166-03FB-4855-BFCF-CB1A2FBA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AA1ED-50EE-4974-B4E4-B56A3183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66A81-0457-4D42-B726-1770F96B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267754-2BE3-40ED-B593-19AEC18F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372A1B-7E09-46D3-BF5A-FE4C9CEB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77D3E-AD37-4E79-ABEE-926DEF2F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CC6D-055F-488A-9E45-6D9B5958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E84459-48F0-409A-A7EC-7027ECF5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AB1556-3EC6-407D-B8DD-FB8C42A1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FB81B-CC36-4D6C-8A32-BB445562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C721-97E0-4AD1-83C4-3AC45FB7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DD87-7570-4EF8-84FA-A0A08BBF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D175-124E-49A8-923C-38183341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30C5-42BC-4CD3-A42F-CA0B4504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7B8-0C04-48F5-8A9E-856CC025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B197-67E9-48AD-A315-8D45DEEC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E679-DF3C-4A6C-B67F-8B30A6F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D8E21-5D4C-4B42-BB19-EDE6272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B66D-6E13-4C1B-B0B2-4F5F65B0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275E-3DAE-4BC5-BE4F-A5743AD5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4DEB-1F3D-48EB-B248-6653217E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85AA-C929-4771-8D75-55BB39EA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7AC85-B1AF-4A9E-833E-18059B17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18EF2-A473-4C89-9EBC-3BA0E4C5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27BFE-FBF0-4A14-B08A-4FD27D60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200-E255-4C32-A601-AF941EED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B474-488C-423A-9E40-E53EE49C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368CE-9539-47B5-AFD8-56C0331E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3EFBE-853E-46DD-B114-814DFD5F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9E942-8EAB-41D5-AB69-15CC9209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F1EBF-77B4-47FF-89A9-11581C8C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1E44B-DEF1-4E01-8CD1-1D48ECF0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B3ADB-C4F2-47E8-A847-3D7F9C2A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3FB6-6361-4BCE-8441-623842FA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871E3-16DF-4145-8A0C-BDCD2E2B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FC2FD-06C7-442C-B038-5DC41816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2FE-0609-4DA3-A88F-A5089DFE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270DF-7471-4A89-8993-B60F7531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35293-6339-48E4-89A6-BF709444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EA274-9383-4AF5-926B-03978DB0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E1BEA-E07C-45B7-B9E7-E4DC055F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0D8F-2880-40C8-AA90-0CDE448F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F8B51-16BD-4B4B-8191-E8DC28BB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929F-B5B7-48D3-ABE1-1901CC8E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DD7D5-EE28-4D49-A8B1-A92ACF5A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F499-428E-492D-B655-88E3A97A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D7462-06FF-45DE-BB89-7AFD84C4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486-CCB9-4C62-8C6A-4007A658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C40F-453D-4828-BB00-3C535BAD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2F5A9-B03C-45F6-A289-66577965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0C668-35E7-42A8-9776-504C7177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653EA-6457-492E-9E3D-FBC51EA5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9432D-DE14-4A8F-AE06-8EBE5C88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EC8A4-2658-4BF4-A60A-36DB5BF5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66884-2D0D-4D1B-9547-33B98A22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29A9-CF6B-419F-A943-AC5A7023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17489-A399-44E1-B615-E15CD71B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470D1-447B-473C-B77A-0C05025C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7B4-AFBE-4E1F-8D60-6862279A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A713A-0198-4180-87DC-364A309B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99A9D-D801-4BA6-91C0-5BDFECC8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37CAA-45D6-4FF2-93CC-EC59FA5D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013E2-22BA-4004-A35D-CFC8FDFD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67A54-FEB2-4A07-A8A8-2B75270F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A145D-CD31-4A7A-BBD6-7FA9980C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4522A-4252-4BD0-B206-49EE05C1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56D47-AEA6-44A9-A4B2-54271B4D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0CE7C-08D7-4D65-8470-55492DF0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A1725-4FC2-4131-BCCB-CF242F7B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DA4-21ED-4300-8D15-A2A705C4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8E0B0-3DFB-4788-90A1-0B26495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622DB-FC2C-4124-8E87-2CE2D65A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F5F17-90A9-4CB6-9A82-53F479B4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8EC83-C885-4F1C-9BF4-1DF09D78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15B4F-DC90-47F7-BA43-D6C472D2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CAF93-24D4-4509-8313-A8C7A7EF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EE6E-DF5B-4A02-9301-4C7EFC82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263EA-A42E-4216-8E20-E2ACDFB3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50427-E9AF-4F0F-BDE1-6523EB2B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AE74E-6D57-45AC-8578-D1B0E10E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69E-ED2F-41C7-83B9-2A934323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C4392-3A92-48C0-AEBA-DC1ECF7C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D83FD-FB7B-475C-AEB8-BC69DA51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7E6EE-2300-4145-9F32-C6262D26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3C638-51C7-451B-A254-D3446C1F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72E88-A239-4959-A0BA-8EE6B251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77138-C865-4B4B-A257-F84528A2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DBC46-B7DA-4C30-B4A0-2882E7D1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02387-E228-486B-A698-0FC1D390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F75C4-8478-40FC-B4FB-EDAC341D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E3AA0-B480-404D-85AC-A69B812A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BC50-7FF8-4F8B-98B8-7EE958C9F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DD65-716F-4AEF-A9D8-F64CE88E2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144A-95D4-4C4C-A3D4-43BE0C7AD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9918-F712-448A-A1D1-03B933EA20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2881-0FC0-419B-9B65-5A7DA42BC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FE11-9DBB-44FB-9277-E172788B08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68D6-CA2F-437B-9485-813AC7218E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7EFF-C32D-4E1D-B0A1-8497692699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F7AA-632E-4692-A672-241757F185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C3DF-0F8C-4210-9C07-C99A6610BF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6BD1-1D20-4C68-BDA5-4C773208CC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2B16-9D80-45ED-9949-ACD96E1798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5C9D-23C6-4EFF-8715-AF637BFCC4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C051-FA59-40BF-8EFA-9C972CB7F1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05A1-E0B2-4169-BC29-A74426CB80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8959-37A7-4FC4-989D-88613D436D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BAB7-9E77-40C8-9BC7-EDBBC7C2F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09B4-BB4D-49CE-BFB6-E8CD0A180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3471-3913-4BE9-9FAB-5ED495D4D2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FE82-A79D-424C-981A-C8C82A1957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E0EC-A843-43FA-A520-B4823D7D83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8D3B-8297-49D4-80D0-704A81C5F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2412-2B81-4036-A4F0-4775C9A0D0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77F2-1E21-46E0-8575-B212C1F7A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2620-63A4-4159-8181-4FB8EAF3F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0958-5EEB-4853-B489-E6257455D6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1D85-B977-467B-9B83-0519275AB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EB54-81FF-49BA-B7D8-1B5773681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54D-BFF1-4794-B723-126CB373D2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C902-72F6-4F3A-B569-2AC15EBAD0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250E-BDE5-442F-B6EA-19F5960624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C9A0-84E6-489B-A7C5-E3A4876BFF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5936-0CC3-45E9-B7A4-0A57679A2A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52BF-9B8C-4FE0-A635-A6BA5076D9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BC7C-70C2-455F-863F-E44F8859DE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9F35-AB0B-4261-AF74-962504E494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EDBE-1C61-443D-92A2-0A9CBEE641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6841-53CC-4431-86B7-AC937FB850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6AD2-420F-431E-A5EA-5511D95448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79D2-5659-484E-9113-B418E5F7B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162160" y="3124080"/>
            <a:ext cx="48196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8096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95360" y="861840"/>
            <a:ext cx="815328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09680" y="1738440"/>
            <a:ext cx="83246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457200" y="1757520"/>
            <a:ext cx="8229600" cy="33429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928800" y="1714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2143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928800" y="3000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857160" y="3857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00080" y="4286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500040" y="1514520"/>
            <a:ext cx="8143920" cy="382896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928800" y="1500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928800" y="1928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928800" y="2857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928800" y="3714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1000080" y="4500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357120" y="695160"/>
            <a:ext cx="82105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7210440" cy="6289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8229600" cy="5643720"/>
          </a:xfrm>
          <a:prstGeom prst="rect">
            <a:avLst/>
          </a:prstGeom>
          <a:ln w="0">
            <a:noFill/>
          </a:ln>
        </p:spPr>
      </p:pic>
      <p:sp>
        <p:nvSpPr>
          <p:cNvPr id="1040" name="矩形 3"/>
          <p:cNvSpPr/>
          <p:nvPr/>
        </p:nvSpPr>
        <p:spPr>
          <a:xfrm>
            <a:off x="1143000" y="785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1071720" y="1785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1071720" y="3214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1071720" y="4572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380880" y="942840"/>
            <a:ext cx="8382240" cy="497232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478620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2928960" y="4429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404640" y="723960"/>
            <a:ext cx="8334720" cy="54100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2357280" y="714240"/>
            <a:ext cx="500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3286080" y="2714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1785960" y="4143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2:5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